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10.jpeg" ContentType="image/jpeg"/>
  <Override PartName="/ppt/media/image35.jpeg" ContentType="image/jpeg"/>
  <Override PartName="/ppt/media/image47.png" ContentType="image/png"/>
  <Override PartName="/ppt/media/image34.jpeg" ContentType="image/jpeg"/>
  <Override PartName="/ppt/media/image7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27.jpeg" ContentType="image/jpeg"/>
  <Override PartName="/ppt/media/image50.jpeg" ContentType="image/jpeg"/>
  <Override PartName="/ppt/media/image39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43.png" ContentType="image/png"/>
  <Override PartName="/ppt/media/image46.jpeg" ContentType="image/jpeg"/>
  <Override PartName="/ppt/media/image48.jpeg" ContentType="image/jpeg"/>
  <Override PartName="/ppt/media/image30.jpeg" ContentType="image/jpeg"/>
  <Override PartName="/ppt/media/image12.png" ContentType="image/png"/>
  <Override PartName="/ppt/media/image49.png" ContentType="image/pn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E36-6253-4D56-80B9-8F1D5BA9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287-D159-49E8-9AB3-B1284BB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37B-C405-4111-BC52-D0932C79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F70-FF17-47AB-8BAE-6E53317A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5203-90CE-4F57-B0AE-7BA3329F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53A6-C162-40B7-BAAE-33172663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51D-CDD9-46A6-BD7D-E38FEFB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17CE-E010-4174-8B81-1CF10E16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6639-3C31-4E71-8372-5C5935A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DF1-6E97-4BD1-A0BA-2B3432FB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76C5-086A-4FDD-8F86-0E495DE5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CF6-F2DF-4A30-8234-8C735766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495-BF1C-4853-9D23-2781F9B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B32-3262-4C0A-ACE7-90DB657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4D33-5CA0-4C97-B78B-EB7EE265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FF9F-E4FD-47C3-967A-E51A5DA9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F35E-E239-4C3F-9552-4FB9F3D6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A66-F31E-4DF1-AE11-C823ED0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140-5C13-406C-B8A5-FA3965D1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03D-2B27-4666-A7E0-805E16F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92E-2A67-4F0F-8A54-9BC63605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60E-0203-4522-86EF-240B62B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DA0-756F-45F2-90D7-57E640E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842-8C98-40C7-A068-B5BBC81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8EA-12EA-457C-A232-3D348CEBF7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1F7-BD2B-4751-A4EA-6E81BEC241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istribution_of_the_cholera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tiger.edu.pl/kolodko/galeria/kultura/timbuktu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ger_river_map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geography/outlinemaps/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6/67/Flag_of_South_Africa_1928-1994.svg/800px-Flag_of_South_Africa_1928-1994.svg.png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hyperlink" Target="http://images.google.ca/imgres?imgurl=http://kerrmuseumproductions.com/3dobjects/nyamwezi.jpg&amp;imgrefurl=http://kerrmuseumproductions.com/3dobjects/41nyamwezi.html&amp;h=700&amp;w=248&amp;sz=25&amp;hl=en&amp;start=16&amp;tbnid=0a_ow-CY3WkFnM:&amp;tbnh=140&amp;tbnw=50&amp;prev=/images%3Fq%3DNyamwezi%26gbv%3D2%26svnum%3D10%26hl%3Den%26sa%3DX" TargetMode="External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Era of European 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Muhammad Ali’s Reign (1805-49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Modernizer and Father of Modern Egyp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Agriculture: cotton –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cash crop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Milit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Government: bureaucra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Expanded into Sud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His rule is significant: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One example of Islamic response to western encroach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Said’s Reign (1849-186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Suez canal “lifeline of British Empir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Built b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versal Suez Ship Canal Company (French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rdinand de Lesse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1859-6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1.5 million Egyptians work on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125 thousand died…choler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distribution of chole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81880" cy="3856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lera in today’s worl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it kill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erotoxins cause diarrhe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ive fluid loss (20 liters) – shock – deat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4-36 hou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atment: rehydration, electrolytes, anti-biotic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38098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Ismael’s Reign (1863-79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Took advantage of high cotton prices due to US Civil War (1861-6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War ends; price of cotton drops – Egypt goes nearly bankrup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Ismael sells his shares in the Suez canal to British; avoids bankruptc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Br. influence as a resul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0160" y="1219320"/>
            <a:ext cx="3709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He taxed to death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fellah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Employs a British mercenary, Charles “China” Gord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His adventur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Advancing into Sud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Siege of Khartoum by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Mahdist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(188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굴림"/>
              </a:rPr>
              <a:t>Four Feathers (fil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577960" cy="350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72200" y="3657600"/>
            <a:ext cx="2359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76440" y="533520"/>
            <a:ext cx="3760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shoda Incident (189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nch and British soldiers meet face to face and nearly start a w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iplomacy prevail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ificance: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race for colonies creates tens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383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75320" y="2057400"/>
            <a:ext cx="3206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Significance of this case study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Est. European influ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Shows self-determination in Egyptians, but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economic mismanage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leads to foreign influe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Suez Canal: strategic import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ench Expan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o Algiers (Algeria), Tunis (Tunisia), and Morocc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first not interested, till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itish in Egy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tled in areas along the Mediterranean coa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Scramble for Africa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The Berlin Conference 1884-8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1546200"/>
            <a:ext cx="5715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9154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alian Expan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rth Africa: Liby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rn of Afric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al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thiopia (attempt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nelik I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layed one European against anoth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risis in Morocco: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First Moroccan Crisis (a.k.a. Tangier Crisis) 190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Kaiser Wilhelm II supported Moroccan indepen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Results:  Puts Br. and Fr. together as allie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N.B. The Second Moroccan Crisis 1911 (Agadir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27800" y="2209680"/>
            <a:ext cx="2992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se Studie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Africa: The Congo &amp;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African Slave Trade</a:t>
            </a:r>
            <a:br>
              <a:rPr sz="4400"/>
            </a:b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(Ended by British in 1807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Africa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aves become integrated into the societ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y in Afric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Non-Africa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come chatt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moved from Afric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ng Leopold III of Belgiu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ristianity, commerce, scientific exploration, and an end to slavery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tional Geographic Congress on Central Africa (offices in Brussels and Pari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81952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48520" y="2133720"/>
            <a:ext cx="25048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Congo River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ierre Savorgnan de Brazza (1852-1905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nch explorer and adventur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ity of Brazzaville named after hi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resented France’s interests in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ternational Geographic Congress on Central Afr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29040" y="1981080"/>
            <a:ext cx="25146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705720" y="2057400"/>
            <a:ext cx="2012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mbuktu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629160" cy="3305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772080" cy="3809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43434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. David Livingstone (1813-73)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d the involvement of Europeans in bringing the light to Afric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Heart of Darknes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Joseph Conra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itis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sionary 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37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18120" y="1447920"/>
            <a:ext cx="40258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iger Riv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Map of Niger ri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531800"/>
            <a:ext cx="716292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labeled outline map African Riv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57280" y="0"/>
            <a:ext cx="62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ench and English Confli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 Egypt: British wi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 Niger Trade (palm oil): French by leveraging British interests with loans for restoration of Alexandr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rlin Conference (1885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een European nations attended and the US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African leaders were the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uropean nations settled their claims to Afric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55680" y="380880"/>
            <a:ext cx="4892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Case studie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outh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Zulu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Bantu speak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Shaka expanded their empire sout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Forced Africans further north and ea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3040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0" y="4343400"/>
            <a:ext cx="1971720" cy="21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629400" y="36576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Shaka Zulu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(1787-1829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Afrikaners (Boer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Originally from Hollan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Britain took over in the early part of 19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  <a:ea typeface="굴림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centur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The Great Trek”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1830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hus est. Orange Free State and Transvaal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772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Invasion of Zululand by British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King Cetawayo of Zulus versus Brit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Battle of Isandlwana 187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Greatest loss of a modern army against a primitive o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543640" y="2857680"/>
            <a:ext cx="33908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orge Gordie (1846-1925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it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. The National African 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. Br. Colonial rule in Niger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60480" y="21337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4145040" cy="5800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65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44840" y="2435400"/>
            <a:ext cx="291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Paul Krug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(1825-1904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President of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ransvaal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067280" y="171936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oer War 1899-190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he Boers est.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Transva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Gold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is discovered (1888)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ape to Cairo (Cecile Rhode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British attempt to annex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ebell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55,000 Boers versus 450,000 British plus Canadians and Australia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Cape to Cair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336680" y="2133720"/>
            <a:ext cx="3408480" cy="441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40240" y="2006640"/>
            <a:ext cx="3797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962240" cy="4448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931000" y="2282760"/>
            <a:ext cx="288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Boers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(Afrikaners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was Britain victorious against the Boe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rutal: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Scorched earth polic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of technology, esp.. machine gu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Concentration camp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ze of forc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416400" cy="5052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408200" y="2435400"/>
            <a:ext cx="473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Nearly 29,000 Bo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children, and wome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ie of starvation or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isease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15,000 plus blacks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ie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57150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94120" cy="606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091840" y="2816280"/>
            <a:ext cx="30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Baden-Powel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Legacy of Boer W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Germany supported the Boers: created resent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st. Union of South Afri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2666880"/>
            <a:ext cx="1676520" cy="1117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248520" y="4038480"/>
            <a:ext cx="2590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enry Morton Stanley (1841-190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spondent fo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ew York Heral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rote about Afr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ught attention of King Leopold III of Belgi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go River sour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. Livingstone I presume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Sir Henry Morton Stanley"/>
          <p:cNvPicPr/>
          <p:nvPr/>
        </p:nvPicPr>
        <p:blipFill>
          <a:blip r:embed="rId1"/>
          <a:stretch/>
        </p:blipFill>
        <p:spPr>
          <a:xfrm>
            <a:off x="5562720" y="1828800"/>
            <a:ext cx="31525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East African St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76560" y="1523880"/>
            <a:ext cx="1801800" cy="2438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477120" y="1676520"/>
            <a:ext cx="2412720" cy="2666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Miramb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Leader of Nyamez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Controlled access to Arab slave tr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Tanzan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752480"/>
            <a:ext cx="78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African Resist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1630440" cy="2438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Shana &amp; Matabele fought against British (in Rhodesia or today’s Zimbabwe)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Uhehe against Germa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imes New Roman"/>
              </a:rPr>
              <a:t>Africans lost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Lack of un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Modern weap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imes New Roman"/>
              </a:rPr>
              <a:t>Rinderpest (viral infection of cattl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235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uropean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Direct Ru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otal direction by European leader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Paternalis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ssimilation (esp. by French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Via 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Indirect Ru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Just the British…enlightened or wha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British governor, but some local leadershi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Br. did not have the man power for dire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The Economics of Imperialis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Goal: Self-sufficienc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Pay its own expen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ploit resourc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Times New Roman"/>
              </a:rPr>
              <a:t>Infrastructure designed with this in mi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ax Africans (cash only, pleas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imes New Roman"/>
              </a:rPr>
              <a:t>Legacy of Colonization in Africa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Rivalries amongst imperial pow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ploitation of African rivalries by Europeans prevents pan-African resist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oss of culture (see Industrial Revolu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ducated Africans lead independence movements in second half of 20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c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Colonial economies are today third world n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rd Stanley’s Rout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773360"/>
            <a:ext cx="71182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Case Studies in Imperialism and Self-De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Nor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굴림"/>
              </a:rPr>
              <a:t>A place of conflict between major powers then…and today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France and Great Britai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Started in 1801 – Napoleon 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Some foreigners ended up fighting with and against the French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One of whom becomes a great leader in Egyptian modern histor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Muhammad Ali (1769-1849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Born in today’s Alban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47242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2190960" cy="332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Muhammad Ali, Viceroy of Egypt"/>
          <p:cNvPicPr/>
          <p:nvPr/>
        </p:nvPicPr>
        <p:blipFill>
          <a:blip r:embed="rId2"/>
          <a:stretch/>
        </p:blipFill>
        <p:spPr>
          <a:xfrm>
            <a:off x="4038480" y="380880"/>
            <a:ext cx="4810320" cy="394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09480" y="4943520"/>
            <a:ext cx="67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굴림"/>
              </a:rPr>
              <a:t>His descendants would rule Egypt till 1952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2:38:03Z</dcterms:created>
  <dc:creator>Generic</dc:creator>
  <dc:description/>
  <dc:language>en-US</dc:language>
  <cp:lastModifiedBy>Hugh</cp:lastModifiedBy>
  <dcterms:modified xsi:type="dcterms:W3CDTF">2007-11-07T01:04:01Z</dcterms:modified>
  <cp:revision>21</cp:revision>
  <dc:subject/>
  <dc:title>Case Studies in Imperialism and Self-Determination</dc:title>
</cp:coreProperties>
</file>